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250-F73F-4E23-AD6C-214ED09B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B5E-D5EE-4735-9450-A6B79AF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09A-4BD1-4EFB-99FA-C9CB86AC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84E-F203-4CFD-83B0-8716C227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474-8709-4053-B45C-E3F83298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38A-A26F-42A8-B471-1AA6FB2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353-5EEB-4827-9F6D-52B490D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E68-1091-472A-B52B-03C7784F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A6A-B61C-4FBD-80A0-265AA5C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D70-CFBC-4394-86E3-A090DCD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B2D-2B9F-432A-A52A-BD08B4FF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729-CCE3-4999-A05D-D95B9FB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1671-DE50-406F-8CF4-6C82970A7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92720" y="1052640"/>
            <a:ext cx="2879640" cy="216036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680"/>
            <a:ext cx="5329080" cy="2837160"/>
          </a:xfrm>
          <a:prstGeom prst="rect">
            <a:avLst/>
          </a:prstGeom>
          <a:solidFill>
            <a:srgbClr val="333399">
              <a:alpha val="60000"/>
            </a:srgbClr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ного хора питат ме навсякъде в св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Защо не с</a:t>
            </a:r>
            <a:r>
              <a:rPr b="1" lang="bg-BG" sz="36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ават чудеса както някога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080" y="3213000"/>
            <a:ext cx="8604000" cy="3341880"/>
          </a:xfrm>
          <a:prstGeom prst="rect">
            <a:avLst/>
          </a:prstGeom>
          <a:ln w="76320">
            <a:solidFill>
              <a:srgbClr val="ccff33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867280" y="549360"/>
            <a:ext cx="3025800" cy="23749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4005360"/>
            <a:ext cx="2089080" cy="108108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" y="423720"/>
            <a:ext cx="3888000" cy="4483080"/>
          </a:xfrm>
          <a:prstGeom prst="rect">
            <a:avLst/>
          </a:prstGeom>
          <a:solidFill>
            <a:srgbClr val="333399">
              <a:alpha val="49000"/>
            </a:srgbClr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о вярвам дне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 таз’ </a:t>
            </a:r>
            <a:r>
              <a:rPr b="1" lang="bg-BG" sz="3600" spc="-1" strike="noStrike">
                <a:solidFill>
                  <a:srgbClr val="ffffff"/>
                </a:solidFill>
                <a:latin typeface="Comic Sans MS"/>
              </a:rPr>
              <a:t>з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 Sans MS"/>
              </a:rPr>
              <a:t>Бог върши чуде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 Sans MS"/>
              </a:rPr>
              <a:t>защото Той е Същият както няко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65800" y="458640"/>
            <a:ext cx="4498920" cy="5994720"/>
          </a:xfrm>
          <a:prstGeom prst="rect">
            <a:avLst/>
          </a:prstGeom>
          <a:ln w="76320">
            <a:solidFill>
              <a:srgbClr val="ccff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50920" y="4869000"/>
            <a:ext cx="3960720" cy="165564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08720" y="4579920"/>
            <a:ext cx="2735280" cy="180180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673440" cy="2755800"/>
          </a:xfrm>
          <a:prstGeom prst="rect">
            <a:avLst/>
          </a:prstGeom>
          <a:ln w="76320">
            <a:solidFill>
              <a:srgbClr val="ccff33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356000" y="442800"/>
            <a:ext cx="4681800" cy="2837160"/>
          </a:xfrm>
          <a:prstGeom prst="rect">
            <a:avLst/>
          </a:prstGeom>
          <a:solidFill>
            <a:srgbClr val="333399">
              <a:alpha val="51000"/>
            </a:srgbClr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ърши Бог чуд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 сега и се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Той е пак Същия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акто е бил пр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457440" cy="17780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443640" y="4869000"/>
            <a:ext cx="2592360" cy="172872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6308640"/>
            <a:ext cx="4535280" cy="289080"/>
          </a:xfrm>
          <a:prstGeom prst="rect">
            <a:avLst/>
          </a:prstGeom>
          <a:noFill/>
          <a:ln w="76320">
            <a:solidFill>
              <a:srgbClr val="99cc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943360"/>
            <a:ext cx="4968720" cy="3725640"/>
          </a:xfrm>
          <a:prstGeom prst="rect">
            <a:avLst/>
          </a:prstGeom>
          <a:ln w="76320">
            <a:solidFill>
              <a:srgbClr val="ccff3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79280" y="260280"/>
            <a:ext cx="5113440" cy="2288520"/>
          </a:xfrm>
          <a:prstGeom prst="rect">
            <a:avLst/>
          </a:prstGeom>
          <a:solidFill>
            <a:srgbClr val="333399">
              <a:alpha val="51000"/>
            </a:srgbClr>
          </a:solidFill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чера, днес, всяк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Той остава Същия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ие вярваме сег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ърши Бог чуд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2987640" cy="22399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299280" y="3286080"/>
            <a:ext cx="1657440" cy="33829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5640" y="4365720"/>
            <a:ext cx="1657080" cy="208764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56000" y="2349360"/>
            <a:ext cx="3095640" cy="194328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74760"/>
            <a:ext cx="5832720" cy="2837160"/>
          </a:xfrm>
          <a:prstGeom prst="rect">
            <a:avLst/>
          </a:prstGeom>
          <a:solidFill>
            <a:srgbClr val="333399">
              <a:alpha val="51000"/>
            </a:srgbClr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Трябва свойте нужди </a:t>
            </a:r>
            <a:r>
              <a:rPr b="1" lang="bg-BG" sz="3600" spc="-1" strike="noStrike">
                <a:solidFill>
                  <a:srgbClr val="ffffff"/>
                </a:solidFill>
                <a:latin typeface="Comic Sans MS"/>
              </a:rPr>
              <a:t>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а кажеш на Хрис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Бог иска в теб да има вяра всяко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60440" cy="288000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2241360" cy="3095640"/>
          </a:xfrm>
          <a:prstGeom prst="rect">
            <a:avLst/>
          </a:prstGeom>
          <a:ln w="76320">
            <a:solidFill>
              <a:srgbClr val="ccff33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203640" y="3429000"/>
            <a:ext cx="5761080" cy="324000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24360" y="1844640"/>
            <a:ext cx="2519640" cy="453564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60200"/>
            <a:ext cx="5977080" cy="2288520"/>
          </a:xfrm>
          <a:prstGeom prst="rect">
            <a:avLst/>
          </a:prstGeom>
          <a:solidFill>
            <a:srgbClr val="333399">
              <a:alpha val="49000"/>
            </a:srgbClr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 Той ще ти помог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е те освоб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т днес не се съмнява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а в Него вярвай 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34000" y="189000"/>
            <a:ext cx="2372040" cy="3168720"/>
          </a:xfrm>
          <a:prstGeom prst="rect">
            <a:avLst/>
          </a:prstGeom>
          <a:ln w="76320">
            <a:solidFill>
              <a:srgbClr val="ccff33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948360" y="4869000"/>
            <a:ext cx="1944720" cy="180000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2817720"/>
            <a:ext cx="5905440" cy="39243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16000" y="2492280"/>
            <a:ext cx="4103640" cy="2808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808360" cy="22460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995640" y="692280"/>
            <a:ext cx="4716720" cy="2837160"/>
          </a:xfrm>
          <a:prstGeom prst="rect">
            <a:avLst/>
          </a:prstGeom>
          <a:solidFill>
            <a:srgbClr val="333399">
              <a:alpha val="49000"/>
            </a:srgbClr>
          </a:solidFill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ърши Бог чуде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 сега и се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Той е пак Същия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акто е бил пре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797360"/>
            <a:ext cx="8856720" cy="107964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67280" y="3645000"/>
            <a:ext cx="4535280" cy="29257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ransition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48360" y="1557360"/>
            <a:ext cx="1368360" cy="194472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476280"/>
            <a:ext cx="5184720" cy="2288520"/>
          </a:xfrm>
          <a:prstGeom prst="rect">
            <a:avLst/>
          </a:prstGeom>
          <a:solidFill>
            <a:srgbClr val="333399">
              <a:alpha val="49000"/>
            </a:srgbClr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чера, днес, всяк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Той остава Същия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ие вярваме сег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ърши Бог чуд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3757680"/>
            <a:ext cx="5184720" cy="28796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6227640" y="476280"/>
            <a:ext cx="2232000" cy="6121440"/>
          </a:xfrm>
          <a:prstGeom prst="rect">
            <a:avLst/>
          </a:pr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04000" y="2781360"/>
            <a:ext cx="2141640" cy="24922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ransition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35:53Z</dcterms:created>
  <dc:creator>TrifonTrifonow</dc:creator>
  <dc:description/>
  <dc:language>en-US</dc:language>
  <cp:lastModifiedBy>TrifonTrifonow</cp:lastModifiedBy>
  <dcterms:modified xsi:type="dcterms:W3CDTF">2005-12-15T20:36:16Z</dcterms:modified>
  <cp:revision>1</cp:revision>
  <dc:subject/>
  <dc:title>Slide 1</dc:title>
</cp:coreProperties>
</file>